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572-63F2-477B-8CE1-CA02D1B98EC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39F9-269E-4B18-835F-5B9B2309275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3300-B799-4750-AF59-2BF51C9EAC7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B5D-B56C-43E6-9D48-4F828A03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E806-F080-456A-942D-658B67EB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AD6A-ABB0-427E-B774-FD2EFB277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F210-0DD2-42C2-8CA9-9AA70956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270-F7FA-4235-AB18-BA7F7102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FB14-34D8-4DE4-A566-5B20AB4D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6C89-33F2-4992-A8D4-0AE8C43F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2A3-0535-4627-9335-D4C1C8CF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C28-2103-4F6A-AD32-D0DC9830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8BC-9ED2-43E1-A8AF-0ED6B2F6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B2E-7C82-4299-83EF-A575879A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9B0-63B5-4262-BB7E-B13D213B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8195-B740-4B49-AB3C-4716FDD99E4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kşam olunca sustururum herkesi,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her şey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rkadaşım, sofrayı hemen hazırlad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ahar, Türkçe defterini kaybetmiş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ilesi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onu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ço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sever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Özel bir çiçek yaptırd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Duymazsınız siz gönlümün sesi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Seviyorum bu şehrin çilesi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14200"/>
          <a:ext cx="8715600" cy="64677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381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ını mıh gibi aklımda tutuyorum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5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Adam telefonu icat etmiş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olanın yurdun her yerini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500" spc="-1" strike="noStrike">
                          <a:solidFill>
                            <a:srgbClr val="ff0000"/>
                          </a:solidFill>
                          <a:latin typeface="Tahoma"/>
                          <a:ea typeface="Tahoma"/>
                        </a:rPr>
                        <a:t>O gün herkes anladı gerçeği.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4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 ülkeyi tanımalısınız. </a:t>
                      </a:r>
                      <a:endParaRPr b="0" lang="en-US" sz="4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Öksüz yavruları bağrıma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astı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Tahoma"/>
                <a:ea typeface="Tahoma"/>
              </a:rPr>
              <a:t>Aklından geçenleri ben biliri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990000"/>
                </a:solidFill>
                <a:latin typeface="Tahoma"/>
                <a:ea typeface="Tahoma"/>
              </a:rPr>
              <a:t>Açıyorlar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Tahoma"/>
                <a:ea typeface="Tahoma"/>
              </a:rPr>
              <a:t>esmer </a:t>
            </a:r>
            <a:br>
              <a:rPr sz="8000"/>
            </a:br>
            <a:r>
              <a:rPr b="1" lang="tr-TR" sz="8000" spc="-1" strike="noStrike">
                <a:solidFill>
                  <a:srgbClr val="990000"/>
                </a:solidFill>
                <a:latin typeface="Tahoma"/>
                <a:ea typeface="Tahoma"/>
              </a:rPr>
              <a:t>avuçların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şıyor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yüce </a:t>
            </a:r>
            <a:br>
              <a:rPr sz="8000"/>
            </a:b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dağlar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Güney tarafa bakan pencereyi annem açt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Dostlar beni hatırlası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Hepimiz kitabı okudu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Herkes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kitap paras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ver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8:10:18Z</dcterms:modified>
  <cp:revision>127</cp:revision>
  <dc:subject/>
  <dc:title>KONU 1</dc:title>
</cp:coreProperties>
</file>